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850-83D0-47DF-8979-54614BB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29D-A5A8-4B57-BA0D-A29A34E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79F-E870-4C06-88F2-3F022C98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5DA-9B1A-42DF-8EF6-2F671B5B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241-8F48-4D2D-A574-0D755DBB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389-EFB7-43DD-B46B-75DA5402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E5C-6449-4FEC-99A4-F256909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D20-87D1-4AEE-AF71-EBD6A4D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54-3523-47F7-BA41-BC82D97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82B-0219-4742-BF9C-09E3FBCE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CD1-46B9-4163-8736-6FA6C0E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5B8-580B-4C7A-955B-A26D1C8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52B-D186-4E73-A77F-A9BD2203C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g had pant on his t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wantted to wash it awa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t wasnt’ long befoe they lef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It wasn’t long before they left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e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What fun they ha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dog had pant on his ta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The dog had paint on his tai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e wantted to wash it awa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He wanted to wash it away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The dog askked the cat for help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at told the dog to w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The dog askked the cat for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The dog asked the cat for hel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told the dog to w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The cat told the dog to wai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t find the s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’es a smat c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t find the s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The cat found the soa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’es a smat ca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She’s a smart ca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  she washed the dogs tai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8.  That mad him happ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.  she washed the dogs tail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100" spc="-1" strike="noStrike">
                <a:solidFill>
                  <a:srgbClr val="333399"/>
                </a:solidFill>
                <a:latin typeface="Arial"/>
              </a:rPr>
              <a:t>She washed the dogs tail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  That mad him happ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6700" spc="-1" strike="noStrike">
                <a:solidFill>
                  <a:srgbClr val="333399"/>
                </a:solidFill>
                <a:latin typeface="Arial"/>
              </a:rPr>
              <a:t>That made him happy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ily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t wasnt’ long befoe they lef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0. What fune they had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teacher</cp:lastModifiedBy>
  <dcterms:modified xsi:type="dcterms:W3CDTF">2010-10-14T20:10:22Z</dcterms:modified>
  <cp:revision>37</cp:revision>
  <dc:subject/>
  <dc:title>Slide 1</dc:title>
</cp:coreProperties>
</file>